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747A-A85D-4AB9-94A5-85961E25D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B062-780A-4CB5-A8F2-B7161D860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6163-C8F2-4CBD-9DFB-6CEDD4777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7D8D-2F11-4E51-BC75-7387EC568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992C-75BC-459F-95D4-362039A58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E3F4-D95D-478C-A0DD-5E84B7E9D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9C3F-C7CD-459B-B762-F7B632C87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E884-C16E-47C3-8F4A-BE2F1CC9B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24FF-0450-4E6B-AC7D-32BFA67B1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E41C-913E-402A-A6F5-AAEEAF628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0AFD-A996-4305-8390-C4F288422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7640-A0AF-430A-B71E-3F7F12B42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48B956-48CC-44C8-8EC1-BB04BF97543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FE21B1-4A5C-4915-BF16-A4DF28F552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 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Calibri"/>
              </a:rPr>
              <a:t>What is an adaptation?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29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0" y="846000"/>
            <a:ext cx="9144000" cy="60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Red eyed tree frogs have adapted to live in the tropical rainforest.  These frogs have adapted to survive in a warm, wet environme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Which adaptations have allowed red eyed tree frogs to survive in their environment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. – Green skin to blend in with tre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Suction disks on fingers and toes to stick to leav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. – Being nocturnal to hide from pred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A short tongue to catch bug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. – Small ears to stay war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Laying their eggs on leaves over pools of wat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. -  Webbed feet to climb tre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Bright red eyes to surprise and confuse predator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end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Anticipatory S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 n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nounceme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Re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Guided Pract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Independent Pract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. Clo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nounc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tudy guide Part II will be issued tomorrow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Honors projects will be assigned tomorrow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Your exam will be next Friday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a Review - Adap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o answer an adaptation question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 the question and answer choices carefull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ircle the biome the question is asking abou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oose the answer choice which best describes adaptations for that bio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576440"/>
            <a:ext cx="11822040" cy="45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0" y="1417680"/>
            <a:ext cx="91440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oosevelt elk are a type of deer that have adapted to live in the temperate rainforest.  These elk have adapted to survive in an wet, cool environ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ich adaptation has allowed Roosevelt elk to survive in their environme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Thick fur to stay wa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Big ears to keep c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. Small tails to stay wa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. Long legs to run through gr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29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0" y="846000"/>
            <a:ext cx="9144000" cy="60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Grey squirrels have adapted to live in the temperate deciduous forest.  These squirrels have adapted to survive in a forest environment with four seaso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Which adaptations have allowed grey squirrels to survive in their environment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. - Storing food for wint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Grey fur to blend in with tree bar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. - Big ears to keep coo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Long tails to help them bal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. -  Small tails to stay war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 Webbed feet for swimm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. -  Sharp teeth to open nu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 Small eyes to watch for pred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29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0" y="846000"/>
            <a:ext cx="9144000" cy="60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olar bears have adapted to live in the tundra.  These bears have adapted to survive in a cold, harsh environme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Which adaptations have allowed polar bears to survive in their environment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. – Hibernating in the wint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Having thin fur to keep coo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. – Migrating in the winter to the deser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White fur color for camouflag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. -  Thick fur to stay war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 Big feet to walk on the snow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. -  Big ears to stay war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 Sharp teeth to hunt pre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4:02:11Z</dcterms:created>
  <dc:creator>Caroline Roth</dc:creator>
  <dc:description/>
  <dc:language>en-US</dc:language>
  <cp:lastModifiedBy>Caroline Roth</cp:lastModifiedBy>
  <dcterms:modified xsi:type="dcterms:W3CDTF">2011-04-28T04:30:03Z</dcterms:modified>
  <cp:revision>2</cp:revision>
  <dc:subject/>
  <dc:title>Do Now</dc:title>
</cp:coreProperties>
</file>